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F1E-52B2-4DA6-9B55-5D4AD52A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440" y="401148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B2A-BA96-47EA-9040-5C3E29E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2340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E93-17C2-4963-B1C9-CEFFCABB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88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532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844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88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532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2DCC-9888-498E-BFC6-13866880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AE1F-9475-4650-9A5E-E2461A06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7E3A-F926-411C-8C56-F44FF7A6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DF1F-2675-456F-B4E8-DF8872DE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919-2B93-4533-AD1F-0BC07B05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5A8E-F458-40AA-BBB6-3D0C7798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9EE7-F341-4FF4-AB71-FA524CBC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07AE-1C3A-49EE-B50F-C8F96A1D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EF7-8FAE-45BD-B2B9-D606F143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2340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2708-2A64-4502-9E5B-8E82B1C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C589-BC65-4156-BAEF-5A2FD1AE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8440" y="401148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0DA4-85A9-455A-8FF1-EAC83CC7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2340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DB54-F0E6-49C6-AAD7-2472B35A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1688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4532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844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1688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4532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1452-0EB1-4598-934E-8C48D66B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8FE-F527-4C63-AB21-FBDDA97B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4E3-F814-4780-BD37-45753C0B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D1C-6F2B-48EC-9DC4-6F8D4324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386-DBDD-46E4-9051-C3D4E38F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158-C2DC-488E-9D9A-A7B4A238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2340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710-83B5-4E50-A41A-F9B8353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C97-64DC-4D44-8A63-32DFA474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611280"/>
            <a:ext cx="8153280" cy="1600200"/>
            <a:chOff x="457200" y="61128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61128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77652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99720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3273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2FF4-5293-4FD9-A307-8677AF7C11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8A79-FAA2-4092-A032-D351539A03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920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hemical Bond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82760" y="30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. Why Atoms Combine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1488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Chemical Formula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1488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Chemical Bond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1488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Stability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293760" y="3565440"/>
            <a:ext cx="39355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cc00"/>
                </a:solidFill>
                <a:latin typeface="Century Schoolbook"/>
              </a:rPr>
              <a:t>H</a:t>
            </a:r>
            <a:r>
              <a:rPr b="1" lang="en-US" sz="10000" spc="-1" strike="noStrike" baseline="-25000">
                <a:solidFill>
                  <a:srgbClr val="ffcc00"/>
                </a:solidFill>
                <a:latin typeface="Century Schoolbook"/>
              </a:rPr>
              <a:t>2</a:t>
            </a:r>
            <a:r>
              <a:rPr b="1" lang="en-US" sz="10000" spc="-1" strike="noStrike">
                <a:solidFill>
                  <a:srgbClr val="ffcc00"/>
                </a:solidFill>
                <a:latin typeface="Century Schoolbook"/>
              </a:rPr>
              <a:t>O</a:t>
            </a:r>
            <a:endParaRPr b="0" lang="en-US" sz="10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" name="Group 13"/>
          <p:cNvGrpSpPr/>
          <p:nvPr/>
        </p:nvGrpSpPr>
        <p:grpSpPr>
          <a:xfrm>
            <a:off x="2612520" y="5533920"/>
            <a:ext cx="5826600" cy="898560"/>
            <a:chOff x="2612520" y="5533920"/>
            <a:chExt cx="5826600" cy="898560"/>
          </a:xfrm>
        </p:grpSpPr>
        <p:sp>
          <p:nvSpPr>
            <p:cNvPr id="96" name="Rectangle 4"/>
            <p:cNvSpPr/>
            <p:nvPr/>
          </p:nvSpPr>
          <p:spPr>
            <a:xfrm>
              <a:off x="4362480" y="5757840"/>
              <a:ext cx="40766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cc"/>
                  </a:solidFill>
                  <a:latin typeface="Arial"/>
                </a:rPr>
                <a:t>2 hydrogen atoms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 flipH="1" flipV="1">
              <a:off x="2612520" y="5533920"/>
              <a:ext cx="1706760" cy="53208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3617640" y="4916520"/>
            <a:ext cx="4831200" cy="674640"/>
            <a:chOff x="3617640" y="4916520"/>
            <a:chExt cx="4831200" cy="674640"/>
          </a:xfrm>
        </p:grpSpPr>
        <p:sp>
          <p:nvSpPr>
            <p:cNvPr id="99" name="Rectangle 5"/>
            <p:cNvSpPr/>
            <p:nvPr/>
          </p:nvSpPr>
          <p:spPr>
            <a:xfrm>
              <a:off x="5006880" y="4916520"/>
              <a:ext cx="34419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cc"/>
                  </a:solidFill>
                  <a:latin typeface="Arial"/>
                </a:rPr>
                <a:t>1 oxygen atom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 flipH="1">
              <a:off x="3617640" y="5262480"/>
              <a:ext cx="1406520" cy="1116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 Chemical Formula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649160"/>
            <a:ext cx="8093160" cy="18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Shows: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1) elements in the compound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2) ratio of their ato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19920" y="2970360"/>
          <a:ext cx="248580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970360"/>
                    <a:ext cx="248580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 Chemical Bond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958760"/>
            <a:ext cx="8248680" cy="42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trong attractive force between atoms or ions in a molecule or compound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Formed by: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ransferring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losing or gaining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haring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Stabil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2040" y="1649520"/>
            <a:ext cx="8515440" cy="34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Octet Ru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most atoms form bonds in order to have 8 valence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ull outer energy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ike the Noble Gases!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9" name="Group 23"/>
          <p:cNvGrpSpPr/>
          <p:nvPr/>
        </p:nvGrpSpPr>
        <p:grpSpPr>
          <a:xfrm>
            <a:off x="6270480" y="3033720"/>
            <a:ext cx="2235240" cy="2193840"/>
            <a:chOff x="6270480" y="3033720"/>
            <a:chExt cx="2235240" cy="2193840"/>
          </a:xfrm>
        </p:grpSpPr>
        <p:sp>
          <p:nvSpPr>
            <p:cNvPr id="110" name="AutoShape 5"/>
            <p:cNvSpPr/>
            <p:nvPr/>
          </p:nvSpPr>
          <p:spPr>
            <a:xfrm>
              <a:off x="6270480" y="3033720"/>
              <a:ext cx="2235240" cy="2193840"/>
            </a:xfrm>
            <a:custGeom>
              <a:avLst/>
              <a:gdLst>
                <a:gd name="textAreaLeft" fmla="*/ 510120 w 2235240"/>
                <a:gd name="textAreaRight" fmla="*/ 1725120 w 2235240"/>
                <a:gd name="textAreaTop" fmla="*/ 500760 h 2193840"/>
                <a:gd name="textAreaBottom" fmla="*/ 1693080 h 219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6840360" y="3673440"/>
              <a:ext cx="10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2" name="Group 8"/>
            <p:cNvGrpSpPr/>
            <p:nvPr/>
          </p:nvGrpSpPr>
          <p:grpSpPr>
            <a:xfrm>
              <a:off x="6708600" y="3879720"/>
              <a:ext cx="174960" cy="547920"/>
              <a:chOff x="6708600" y="3879720"/>
              <a:chExt cx="174960" cy="547920"/>
            </a:xfrm>
          </p:grpSpPr>
          <p:sp>
            <p:nvSpPr>
              <p:cNvPr id="113" name="Oval 9"/>
              <p:cNvSpPr/>
              <p:nvPr/>
            </p:nvSpPr>
            <p:spPr>
              <a:xfrm>
                <a:off x="6708600" y="4245120"/>
                <a:ext cx="174960" cy="18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708600" y="3879720"/>
                <a:ext cx="174960" cy="18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11"/>
            <p:cNvGrpSpPr/>
            <p:nvPr/>
          </p:nvGrpSpPr>
          <p:grpSpPr>
            <a:xfrm>
              <a:off x="7893000" y="3879720"/>
              <a:ext cx="174600" cy="547920"/>
              <a:chOff x="7893000" y="3879720"/>
              <a:chExt cx="174600" cy="547920"/>
            </a:xfrm>
          </p:grpSpPr>
          <p:sp>
            <p:nvSpPr>
              <p:cNvPr id="116" name="Oval 12"/>
              <p:cNvSpPr/>
              <p:nvPr/>
            </p:nvSpPr>
            <p:spPr>
              <a:xfrm>
                <a:off x="7893000" y="4245120"/>
                <a:ext cx="174600" cy="18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Oval 13"/>
              <p:cNvSpPr/>
              <p:nvPr/>
            </p:nvSpPr>
            <p:spPr>
              <a:xfrm>
                <a:off x="7893000" y="3879720"/>
                <a:ext cx="174600" cy="18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14"/>
            <p:cNvGrpSpPr/>
            <p:nvPr/>
          </p:nvGrpSpPr>
          <p:grpSpPr>
            <a:xfrm>
              <a:off x="7124760" y="3558960"/>
              <a:ext cx="526680" cy="182520"/>
              <a:chOff x="7124760" y="3558960"/>
              <a:chExt cx="526680" cy="182520"/>
            </a:xfrm>
          </p:grpSpPr>
          <p:sp>
            <p:nvSpPr>
              <p:cNvPr id="119" name="Oval 15"/>
              <p:cNvSpPr/>
              <p:nvPr/>
            </p:nvSpPr>
            <p:spPr>
              <a:xfrm rot="16200000">
                <a:off x="7472520" y="3562560"/>
                <a:ext cx="182520" cy="175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 rot="16200000">
                <a:off x="7121160" y="3562200"/>
                <a:ext cx="182520" cy="175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7124760" y="4519440"/>
              <a:ext cx="526680" cy="182880"/>
              <a:chOff x="7124760" y="4519440"/>
              <a:chExt cx="526680" cy="182880"/>
            </a:xfrm>
          </p:grpSpPr>
          <p:sp>
            <p:nvSpPr>
              <p:cNvPr id="122" name="Oval 18"/>
              <p:cNvSpPr/>
              <p:nvPr/>
            </p:nvSpPr>
            <p:spPr>
              <a:xfrm rot="16200000">
                <a:off x="7472160" y="4523040"/>
                <a:ext cx="182880" cy="175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 rot="16200000">
                <a:off x="7121160" y="4523040"/>
                <a:ext cx="182880" cy="175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Rectangle 22"/>
          <p:cNvSpPr/>
          <p:nvPr/>
        </p:nvSpPr>
        <p:spPr>
          <a:xfrm>
            <a:off x="392040" y="5353200"/>
            <a:ext cx="851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55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tability is the driving force behind bond formation!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9920" y="2274840"/>
            <a:ext cx="8753400" cy="1598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49400" y="4873680"/>
            <a:ext cx="8843760" cy="164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Stabil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2040" y="14983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ransferring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2040" y="408924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haring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jeremy</dc:creator>
  <dc:description/>
  <dc:language>en-US</dc:language>
  <cp:lastModifiedBy>Meldon Jeremy</cp:lastModifiedBy>
  <dcterms:modified xsi:type="dcterms:W3CDTF">2011-11-11T23:46:50Z</dcterms:modified>
  <cp:revision>107</cp:revision>
  <dc:subject/>
  <dc:title>I. Why Atoms Combine</dc:title>
</cp:coreProperties>
</file>